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3F8-B8C0-4B84-8C52-B808E2F7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DA26-8D8B-48BC-A99C-277216E0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79D8-B6F4-4A45-A629-39BE3BCB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8913-FF27-4AE0-8FAE-60A75B07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F6E2-5D9B-428E-8CB9-CDCBB49F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C7D3-1586-4D3B-8C52-AC0618DC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E6C3-6350-4CD1-BA87-E2F87628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0295-AF2C-467E-AEBA-A1159F95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251A-0DA3-474C-85B7-A834C0A1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A56D-2FB5-4DED-A851-01483C67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CBEE-2510-4C06-B6CE-F7797BA3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535B-EC79-48D8-9A7A-1A25BB24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2E03-4A75-41C4-B0CF-F057DFEEF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mericanfolklore.net/folklore/paul-bunyan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ictionary.reference.com/browse/pop+culture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olk Culture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vs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opular Cultu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statereports.us/2010/07/johnny-appleseed-folk-hero-of-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mericanfolklore.net/folklore/paul-bunyan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ttp://www.brainerd.com/news/archives/paul-bunyan-land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ttp://americanfolklore.net/folklore/2010/07/john_henry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pular Culture-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1600200"/>
            <a:ext cx="731520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c6da"/>
                </a:solidFill>
                <a:latin typeface="Verdana"/>
              </a:rPr>
              <a:t>Contemporary lifestyle and items that are well known and generally accepted, cultural patterns that are widespread within a population; also called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pop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4952880"/>
            <a:ext cx="6553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, 80’s slang, Bieber fever, silly bands, colored wristbands, karaok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lk Culture-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95280"/>
            <a:ext cx="792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ditional modes of behavior and expression that are transmitted from generation to generation (by firsthand interaction) among a group or people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733920"/>
            <a:ext cx="800100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epe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ker furniture and architectu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uisiana cuisine (food), music and langua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made quil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awaiian Hula dance, le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wboy boots, hats and cloth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ry and western mu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nti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Mentifacts are the ideas, values and beliefs of a cultu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343400"/>
            <a:ext cx="792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Relig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tifacts-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28954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Verdana"/>
              </a:rPr>
              <a:t>any object made by human beings, especially with a view to subsequent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ofacts-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819520"/>
            <a:ext cx="7925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5555"/>
                </a:solidFill>
                <a:latin typeface="Trebuchet MS"/>
                <a:ea typeface="Tahoma"/>
              </a:rPr>
              <a:t>Term coined by Sir Julian Sorell Huxley, used together with the related terms `mentifact` and `artifact` to describe how cultural traits take on a life of their own, spanning over generation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555555"/>
                </a:solidFill>
                <a:latin typeface="Trebuchet MS"/>
                <a:ea typeface="Tahoma"/>
              </a:rPr>
              <a:t>(rituals/behavi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Major Categorie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Universaliz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Ethn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Universalizing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ligions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found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religious holiday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religious pilgrimag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tend to “recruit” members and try to appeal to people all over (not just a particular lo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thnic Religions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No found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Closely tied to the physical geography of an area (do not go out and recruit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pilgrimages are often to sites in natu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calendars are different from our calendar (follow agricultural cyc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03:01:30Z</dcterms:created>
  <dc:creator>Curt Ranweiler</dc:creator>
  <dc:description/>
  <dc:language>en-US</dc:language>
  <cp:lastModifiedBy>Curtis Ranweiler</cp:lastModifiedBy>
  <dcterms:modified xsi:type="dcterms:W3CDTF">2011-03-23T15:33:08Z</dcterms:modified>
  <cp:revision>2</cp:revision>
  <dc:subject/>
  <dc:title>Folk Culture vs. Popular Culture</dc:title>
</cp:coreProperties>
</file>